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3CD7-84EC-4C68-BA95-D4C707474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79EB-EEFC-447E-8607-BDC0C5747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32F9-238B-4C07-A380-462151192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4D9A-7D9D-47DD-8BA7-CDF3F822B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24B17-ED6E-4415-979E-B6C2AE477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14D82-7125-4172-AE73-6921D610E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0DB99-CC4C-411C-B8C8-865E1779C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D4902-EDAA-4AD8-8321-2BEEB2E2D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3EF8D-4CE5-4C99-A974-F135A58F3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ABFD1-BB35-4EBA-9B56-C5D32771D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BE043-AF3D-4E41-A65C-A53C04EA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7F91-B792-4AA1-9465-54DCB27C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2BB88-168F-4F41-B3C0-2A2BB273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4D198-45E1-416C-AE27-4E7A5B2C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442B8-E045-462D-A3AC-1F1B6C4B6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739B7-946E-4609-86CC-57DDF9416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370EA-535D-47C0-91A0-B5F83AB13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FCEF-AE67-47C5-8B6D-53A22BF01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ABEB-94C9-44B8-BA50-6D6E72005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4CF0-6B18-4CAB-8EAF-4C795CF45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3115-2636-4CAA-AE85-5B585964E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438F-B703-4EB3-9468-6C618579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B8A4-231C-4159-ACAE-99E371C0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8DB8-0741-4FDE-B96E-6B5082E0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E5040-D2AB-438B-BCE9-8BAA7B155E8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54BEB-2B73-41DD-95F7-1D9F7FB7577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Bank paid 22000 dollars to the man for his awar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bank paid twenty-two thousand dollars to the man for his awar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ule: amounts of money, decimals and percentages should be written as numerals. You write out percent, however. Numerals  that can be expressed in one or two words should be spelled ou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. Forty-six cents        $2.7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eewri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 you believe in ghosts or evil spirits? Would you be willing to spend a night alone in a remote house that is supposedly haunted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mework-Juni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n’t forget to finish ch. 4 if you haven’t alread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 due Frida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mework-Freshm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n’t forget chapters 16 and 17 for tomorrow.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pect a quiz sometime this week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 due Frida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urve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ke surve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ut in top shelf when do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ocabulary-week 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 the sheet with a partn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ue before  you leav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4:33:08Z</dcterms:created>
  <dc:creator>rebecca</dc:creator>
  <dc:description/>
  <dc:language>en-US</dc:language>
  <cp:lastModifiedBy>rebecca</cp:lastModifiedBy>
  <dcterms:modified xsi:type="dcterms:W3CDTF">2009-02-23T19:58:49Z</dcterms:modified>
  <cp:revision>2</cp:revision>
  <dc:subject/>
  <dc:title>DOL</dc:title>
</cp:coreProperties>
</file>